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4CC-573D-430C-B313-46419EA1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42F-BBD4-4EFC-83CE-E6710514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829-D82F-4514-992F-B8715B62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58A-960A-432D-A929-87E9A275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908-3007-4DC1-AEA7-4C55CE68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1FD5-6926-43F7-92A9-1632666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9824-05C8-479A-B90A-258DAC80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496C-2FEE-44D8-AACC-75C80C5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5C23-9EE6-4B0B-9026-156FD08C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5C68-498B-48E0-8D3B-2B39C7F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DE8-FD12-4228-B7E8-100557F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BA4-277A-4C58-A4F3-C7935F8A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6A0-5764-485A-A774-CD104E5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DC15-B74B-4339-B34F-34792F2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AFE6-A9C6-47C4-9B49-53C4BB1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FEC6-CA31-4C89-A7DE-0E5F6FF0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5A7-BC8B-4CB3-B606-F5CA727F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286-13BC-4586-904C-DF24157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12A-E0B0-4858-8CBA-599BD9E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40C-311C-4EBE-A57C-22323F48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A16-54B0-4D59-B47C-77693008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ED1-814E-45B5-9569-6F82402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A71-CC26-40E9-B0DC-6C5AE68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FDC-E682-40B1-A25C-C748DDF6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5C5-6997-4226-BE45-AE27D20961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D23-5BB4-4F7E-894B-C272E4AC05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Flight 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ids and Bernoulli’s princi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66960" cy="24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and fluid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luid is any substance that flows easil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s and gases are both flui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ir is a flui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s always have the same volume, but gases can expand or contract to fill any container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es are also compressible flui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576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4419360" y="2743200"/>
            <a:ext cx="29718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-1600200"/>
            <a:ext cx="1257120" cy="144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= Fluid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id resist the motion of objects traveling through them because objects rub against the atoms and molecules that make up the flui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nk of running through waist deep water: the faster you run, the more resistanc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icking your arm out the car window causes resistance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05273E-006 C -0.0302 0.05551 -0.06024 0.11101 -0.05208 0.15079 C -0.04392 0.19057 0.04671 0.20236 0.04931 0.23775 C 0.05192 0.27359 -0.03333 0.31753 -0.03593 0.36379 C -0.03853 0.41027 0.03838 0.46855 0.03334 0.51504 C 0.02831 0.56129 -0.0684 0.59066 -0.06666 0.6427 C -0.06492 0.69496 0.04463 0.77544 0.04393 0.82748 C 0.04324 0.87998 -0.07274 0.91166 -0.07065 0.95722 C -0.06857 1.00255 0.05539 1.05111 0.05608 1.09922 C 0.05678 1.14778 -0.00503 1.19704 -0.06666 1.24653 E">
                                      <p:cBhvr>
                                        <p:cTn id="3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rnoulli's principle: as the velocity of a fluid increases, the pressure exerted by that fluid decreas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mmm…looks complicated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400800" cy="37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hh….Venic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400640" cy="274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347040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620120" cy="57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9:32:36Z</dcterms:created>
  <dc:creator>Teacher</dc:creator>
  <dc:description/>
  <cp:keywords/>
  <dc:language>en-US</dc:language>
  <cp:lastModifiedBy>nbdoe</cp:lastModifiedBy>
  <dcterms:modified xsi:type="dcterms:W3CDTF">2008-05-20T16:02:54Z</dcterms:modified>
  <cp:revision>19</cp:revision>
  <dc:subject/>
  <dc:title>Fligh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